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53D-90BB-4371-848C-50706F3768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35E-D572-413A-A3D3-2C4EA62F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39C-F39C-43B2-AC35-E1539C3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783-9145-45F4-97B0-6F4C6BB3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6D5-AA27-4DD1-B771-6D0BBC40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72A-067F-4F1B-9AF4-B9154212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3F-1121-4A93-93E8-5DEF684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78E-4A4B-42B2-837A-613C0A9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679-4DEE-42DB-B8E6-28258BF6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EE3-5F1C-404D-8741-EEFFCB58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F78-81A6-4454-9177-652703C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333-E18C-4C23-9230-F101CAB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532-384C-412B-8144-814608AD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54E-EC80-4D2C-ACBE-9F8FE935B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omb3" descr=""/>
          <p:cNvPicPr/>
          <p:nvPr/>
        </p:nvPicPr>
        <p:blipFill>
          <a:blip r:embed="rId2"/>
          <a:stretch/>
        </p:blipFill>
        <p:spPr>
          <a:xfrm>
            <a:off x="-4038480" y="1752480"/>
            <a:ext cx="3351240" cy="32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46960"/>
            <a:ext cx="91440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iagnostika mobilních strojů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 systému provozní péč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sef Poš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581280" y="0"/>
            <a:ext cx="3192480" cy="18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379080" y="5105520"/>
            <a:ext cx="6546600" cy="170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-3192480" y="2438280"/>
            <a:ext cx="3192480" cy="18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-3581280" y="4267080"/>
            <a:ext cx="3192480" cy="1852560"/>
          </a:xfrm>
          <a:prstGeom prst="rect">
            <a:avLst/>
          </a:prstGeom>
          <a:ln w="0">
            <a:noFill/>
          </a:ln>
        </p:spPr>
      </p:pic>
      <p:pic>
        <p:nvPicPr>
          <p:cNvPr id="55" name="traktor2" descr=""/>
          <p:cNvPicPr/>
          <p:nvPr/>
        </p:nvPicPr>
        <p:blipFill>
          <a:blip r:embed="rId7"/>
          <a:stretch/>
        </p:blipFill>
        <p:spPr>
          <a:xfrm>
            <a:off x="10287000" y="4495680"/>
            <a:ext cx="2368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rendy v diagno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ka mobilních strojů se vyvíj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individuální (palubní) diagno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nezávislé externí diagno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dynamické provozní diagno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743280"/>
            <a:ext cx="914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lavní dův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 algn="just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zvoj diagnostiky který tento přístup umož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 algn="just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ha eliminovat chybující lidský čin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 algn="just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ní tlak s ohledem na bezpečnost a ekologii provo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Koncepce vědecké práce a vý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130400"/>
            <a:ext cx="8991720" cy="5499000"/>
            <a:chOff x="0" y="1130400"/>
            <a:chExt cx="8991720" cy="5499000"/>
          </a:xfrm>
        </p:grpSpPr>
        <p:grpSp>
          <p:nvGrpSpPr>
            <p:cNvPr id="126" name=""/>
            <p:cNvGrpSpPr/>
            <p:nvPr/>
          </p:nvGrpSpPr>
          <p:grpSpPr>
            <a:xfrm>
              <a:off x="368280" y="1130400"/>
              <a:ext cx="8026560" cy="4838760"/>
              <a:chOff x="368280" y="1130400"/>
              <a:chExt cx="8026560" cy="4838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68280" y="1143000"/>
                <a:ext cx="8026560" cy="4826160"/>
                <a:chOff x="368280" y="1143000"/>
                <a:chExt cx="8026560" cy="48261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68280" y="3429000"/>
                  <a:ext cx="8026560" cy="2540160"/>
                </a:xfrm>
                <a:custGeom>
                  <a:avLst/>
                  <a:gdLst/>
                  <a:ahLst/>
                  <a:rect l="l" t="t" r="r" b="b"/>
                  <a:pathLst>
                    <a:path w="5056" h="1600">
                      <a:moveTo>
                        <a:pt x="8" y="0"/>
                      </a:moveTo>
                      <a:cubicBezTo>
                        <a:pt x="4" y="100"/>
                        <a:pt x="0" y="200"/>
                        <a:pt x="8" y="288"/>
                      </a:cubicBezTo>
                      <a:cubicBezTo>
                        <a:pt x="16" y="376"/>
                        <a:pt x="16" y="440"/>
                        <a:pt x="56" y="528"/>
                      </a:cubicBezTo>
                      <a:cubicBezTo>
                        <a:pt x="96" y="616"/>
                        <a:pt x="160" y="720"/>
                        <a:pt x="248" y="816"/>
                      </a:cubicBezTo>
                      <a:cubicBezTo>
                        <a:pt x="336" y="912"/>
                        <a:pt x="448" y="1016"/>
                        <a:pt x="584" y="1104"/>
                      </a:cubicBezTo>
                      <a:cubicBezTo>
                        <a:pt x="720" y="1192"/>
                        <a:pt x="872" y="1272"/>
                        <a:pt x="1064" y="1344"/>
                      </a:cubicBezTo>
                      <a:cubicBezTo>
                        <a:pt x="1256" y="1416"/>
                        <a:pt x="1496" y="1496"/>
                        <a:pt x="1736" y="1536"/>
                      </a:cubicBezTo>
                      <a:cubicBezTo>
                        <a:pt x="1976" y="1576"/>
                        <a:pt x="2320" y="1576"/>
                        <a:pt x="2504" y="1584"/>
                      </a:cubicBezTo>
                      <a:cubicBezTo>
                        <a:pt x="2688" y="1592"/>
                        <a:pt x="2680" y="1600"/>
                        <a:pt x="2840" y="1584"/>
                      </a:cubicBezTo>
                      <a:cubicBezTo>
                        <a:pt x="3000" y="1568"/>
                        <a:pt x="3280" y="1528"/>
                        <a:pt x="3464" y="1488"/>
                      </a:cubicBezTo>
                      <a:cubicBezTo>
                        <a:pt x="3648" y="1448"/>
                        <a:pt x="3776" y="1408"/>
                        <a:pt x="3944" y="1344"/>
                      </a:cubicBezTo>
                      <a:cubicBezTo>
                        <a:pt x="4112" y="1280"/>
                        <a:pt x="4328" y="1192"/>
                        <a:pt x="4472" y="1104"/>
                      </a:cubicBezTo>
                      <a:cubicBezTo>
                        <a:pt x="4616" y="1016"/>
                        <a:pt x="4720" y="912"/>
                        <a:pt x="4808" y="816"/>
                      </a:cubicBezTo>
                      <a:cubicBezTo>
                        <a:pt x="4896" y="720"/>
                        <a:pt x="4960" y="608"/>
                        <a:pt x="5000" y="528"/>
                      </a:cubicBezTo>
                      <a:cubicBezTo>
                        <a:pt x="5040" y="448"/>
                        <a:pt x="5040" y="424"/>
                        <a:pt x="5048" y="336"/>
                      </a:cubicBezTo>
                      <a:cubicBezTo>
                        <a:pt x="5056" y="248"/>
                        <a:pt x="5048" y="56"/>
                        <a:pt x="5048" y="0"/>
                      </a:cubicBez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1143000"/>
                  <a:ext cx="8001000" cy="426708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1143000" y="1130400"/>
                <a:ext cx="4343400" cy="2425680"/>
              </a:xfrm>
              <a:custGeom>
                <a:avLst/>
                <a:gdLst/>
                <a:ahLst/>
                <a:rect l="l" t="t" r="r" b="b"/>
                <a:pathLst>
                  <a:path w="2736" h="1528">
                    <a:moveTo>
                      <a:pt x="2208" y="8"/>
                    </a:moveTo>
                    <a:cubicBezTo>
                      <a:pt x="2040" y="4"/>
                      <a:pt x="1872" y="0"/>
                      <a:pt x="1728" y="8"/>
                    </a:cubicBezTo>
                    <a:cubicBezTo>
                      <a:pt x="1584" y="16"/>
                      <a:pt x="1480" y="32"/>
                      <a:pt x="1344" y="56"/>
                    </a:cubicBezTo>
                    <a:cubicBezTo>
                      <a:pt x="1208" y="80"/>
                      <a:pt x="1040" y="120"/>
                      <a:pt x="912" y="152"/>
                    </a:cubicBezTo>
                    <a:cubicBezTo>
                      <a:pt x="784" y="184"/>
                      <a:pt x="696" y="200"/>
                      <a:pt x="576" y="248"/>
                    </a:cubicBezTo>
                    <a:cubicBezTo>
                      <a:pt x="456" y="296"/>
                      <a:pt x="280" y="360"/>
                      <a:pt x="192" y="440"/>
                    </a:cubicBezTo>
                    <a:cubicBezTo>
                      <a:pt x="104" y="520"/>
                      <a:pt x="0" y="592"/>
                      <a:pt x="48" y="728"/>
                    </a:cubicBezTo>
                    <a:cubicBezTo>
                      <a:pt x="96" y="864"/>
                      <a:pt x="192" y="1136"/>
                      <a:pt x="480" y="1256"/>
                    </a:cubicBezTo>
                    <a:cubicBezTo>
                      <a:pt x="768" y="1376"/>
                      <a:pt x="1416" y="1528"/>
                      <a:pt x="1776" y="1448"/>
                    </a:cubicBezTo>
                    <a:cubicBezTo>
                      <a:pt x="2136" y="1368"/>
                      <a:pt x="2544" y="992"/>
                      <a:pt x="2640" y="776"/>
                    </a:cubicBezTo>
                    <a:cubicBezTo>
                      <a:pt x="2736" y="560"/>
                      <a:pt x="2448" y="280"/>
                      <a:pt x="2352" y="152"/>
                    </a:cubicBezTo>
                    <a:cubicBezTo>
                      <a:pt x="2256" y="24"/>
                      <a:pt x="2160" y="16"/>
                      <a:pt x="2064" y="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70480" y="1130400"/>
                <a:ext cx="3759120" cy="2984400"/>
              </a:xfrm>
              <a:custGeom>
                <a:avLst/>
                <a:gdLst/>
                <a:ahLst/>
                <a:rect l="l" t="t" r="r" b="b"/>
                <a:pathLst>
                  <a:path w="2368" h="1880">
                    <a:moveTo>
                      <a:pt x="2368" y="1016"/>
                    </a:moveTo>
                    <a:cubicBezTo>
                      <a:pt x="2344" y="952"/>
                      <a:pt x="2320" y="888"/>
                      <a:pt x="2272" y="824"/>
                    </a:cubicBezTo>
                    <a:cubicBezTo>
                      <a:pt x="2224" y="760"/>
                      <a:pt x="2160" y="696"/>
                      <a:pt x="2080" y="632"/>
                    </a:cubicBezTo>
                    <a:cubicBezTo>
                      <a:pt x="2000" y="568"/>
                      <a:pt x="1888" y="496"/>
                      <a:pt x="1792" y="440"/>
                    </a:cubicBezTo>
                    <a:cubicBezTo>
                      <a:pt x="1696" y="384"/>
                      <a:pt x="1624" y="344"/>
                      <a:pt x="1504" y="296"/>
                    </a:cubicBezTo>
                    <a:cubicBezTo>
                      <a:pt x="1384" y="248"/>
                      <a:pt x="1216" y="192"/>
                      <a:pt x="1072" y="152"/>
                    </a:cubicBezTo>
                    <a:cubicBezTo>
                      <a:pt x="928" y="112"/>
                      <a:pt x="752" y="72"/>
                      <a:pt x="640" y="56"/>
                    </a:cubicBezTo>
                    <a:cubicBezTo>
                      <a:pt x="528" y="40"/>
                      <a:pt x="488" y="0"/>
                      <a:pt x="400" y="56"/>
                    </a:cubicBezTo>
                    <a:cubicBezTo>
                      <a:pt x="312" y="112"/>
                      <a:pt x="176" y="240"/>
                      <a:pt x="112" y="392"/>
                    </a:cubicBezTo>
                    <a:cubicBezTo>
                      <a:pt x="48" y="544"/>
                      <a:pt x="0" y="776"/>
                      <a:pt x="16" y="968"/>
                    </a:cubicBezTo>
                    <a:cubicBezTo>
                      <a:pt x="32" y="1160"/>
                      <a:pt x="16" y="1400"/>
                      <a:pt x="208" y="1544"/>
                    </a:cubicBezTo>
                    <a:cubicBezTo>
                      <a:pt x="400" y="1688"/>
                      <a:pt x="872" y="1880"/>
                      <a:pt x="1168" y="1832"/>
                    </a:cubicBezTo>
                    <a:cubicBezTo>
                      <a:pt x="1464" y="1784"/>
                      <a:pt x="1808" y="1432"/>
                      <a:pt x="1984" y="1256"/>
                    </a:cubicBezTo>
                    <a:cubicBezTo>
                      <a:pt x="2160" y="1080"/>
                      <a:pt x="2192" y="928"/>
                      <a:pt x="2224" y="776"/>
                    </a:cubicBezTo>
                  </a:path>
                </a:pathLst>
              </a:cu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219320"/>
              <a:ext cx="8991720" cy="5410080"/>
              <a:chOff x="0" y="1219320"/>
              <a:chExt cx="8991720" cy="5410080"/>
            </a:xfrm>
          </p:grpSpPr>
          <p:sp>
            <p:nvSpPr>
              <p:cNvPr id="133" name=""/>
              <p:cNvSpPr/>
              <p:nvPr/>
            </p:nvSpPr>
            <p:spPr>
              <a:xfrm>
                <a:off x="3733920" y="6172200"/>
                <a:ext cx="2133360" cy="457200"/>
              </a:xfrm>
              <a:prstGeom prst="wedgeRectCallout">
                <a:avLst>
                  <a:gd name="adj1" fmla="val -52976"/>
                  <a:gd name="adj2" fmla="val -2663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temati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8000" y="1219320"/>
                <a:ext cx="2133720" cy="457200"/>
              </a:xfrm>
              <a:prstGeom prst="wedgeRectCallout">
                <a:avLst>
                  <a:gd name="adj1" fmla="val -85046"/>
                  <a:gd name="adj2" fmla="val 3993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yzi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219320"/>
                <a:ext cx="2133720" cy="457200"/>
              </a:xfrm>
              <a:prstGeom prst="wedgeRectCallout">
                <a:avLst>
                  <a:gd name="adj1" fmla="val 73064"/>
                  <a:gd name="adj2" fmla="val 3854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em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1676520" y="2666880"/>
            <a:ext cx="4495680" cy="2286000"/>
            <a:chOff x="1676520" y="2666880"/>
            <a:chExt cx="4495680" cy="2286000"/>
          </a:xfrm>
        </p:grpSpPr>
        <p:grpSp>
          <p:nvGrpSpPr>
            <p:cNvPr id="137" name=""/>
            <p:cNvGrpSpPr/>
            <p:nvPr/>
          </p:nvGrpSpPr>
          <p:grpSpPr>
            <a:xfrm>
              <a:off x="1676520" y="2666880"/>
              <a:ext cx="4495680" cy="2286000"/>
              <a:chOff x="1676520" y="2666880"/>
              <a:chExt cx="4495680" cy="22860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76520" y="2895480"/>
                <a:ext cx="4495680" cy="2057400"/>
              </a:xfrm>
              <a:custGeom>
                <a:avLst/>
                <a:gdLst/>
                <a:ahLst/>
                <a:rect l="l" t="t" r="r" b="b"/>
                <a:pathLst>
                  <a:path w="2784" h="1200">
                    <a:moveTo>
                      <a:pt x="2784" y="1200"/>
                    </a:moveTo>
                    <a:cubicBezTo>
                      <a:pt x="2488" y="792"/>
                      <a:pt x="2192" y="384"/>
                      <a:pt x="1968" y="192"/>
                    </a:cubicBezTo>
                    <a:cubicBezTo>
                      <a:pt x="1744" y="0"/>
                      <a:pt x="1648" y="32"/>
                      <a:pt x="1440" y="48"/>
                    </a:cubicBezTo>
                    <a:cubicBezTo>
                      <a:pt x="1232" y="64"/>
                      <a:pt x="928" y="160"/>
                      <a:pt x="720" y="288"/>
                    </a:cubicBezTo>
                    <a:cubicBezTo>
                      <a:pt x="512" y="416"/>
                      <a:pt x="312" y="688"/>
                      <a:pt x="192" y="816"/>
                    </a:cubicBezTo>
                    <a:cubicBezTo>
                      <a:pt x="72" y="944"/>
                      <a:pt x="32" y="1016"/>
                      <a:pt x="0" y="1056"/>
                    </a:cubicBezTo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76520" y="2666880"/>
                <a:ext cx="4495680" cy="2057400"/>
              </a:xfrm>
              <a:custGeom>
                <a:avLst/>
                <a:gdLst/>
                <a:ahLst/>
                <a:rect l="l" t="t" r="r" b="b"/>
                <a:pathLst>
                  <a:path w="2784" h="1200">
                    <a:moveTo>
                      <a:pt x="2784" y="1200"/>
                    </a:moveTo>
                    <a:cubicBezTo>
                      <a:pt x="2488" y="792"/>
                      <a:pt x="2192" y="384"/>
                      <a:pt x="1968" y="192"/>
                    </a:cubicBezTo>
                    <a:cubicBezTo>
                      <a:pt x="1744" y="0"/>
                      <a:pt x="1648" y="32"/>
                      <a:pt x="1440" y="48"/>
                    </a:cubicBezTo>
                    <a:cubicBezTo>
                      <a:pt x="1232" y="64"/>
                      <a:pt x="928" y="160"/>
                      <a:pt x="720" y="288"/>
                    </a:cubicBezTo>
                    <a:cubicBezTo>
                      <a:pt x="512" y="416"/>
                      <a:pt x="312" y="688"/>
                      <a:pt x="192" y="816"/>
                    </a:cubicBezTo>
                    <a:cubicBezTo>
                      <a:pt x="72" y="944"/>
                      <a:pt x="32" y="1016"/>
                      <a:pt x="0" y="1056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438280" y="4419720"/>
              <a:ext cx="3276720" cy="496440"/>
            </a:xfrm>
            <a:prstGeom prst="wedgeRoundRectCallout">
              <a:avLst>
                <a:gd name="adj1" fmla="val -33634"/>
                <a:gd name="adj2" fmla="val -8470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ojírenské technolog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76920" y="2133720"/>
            <a:ext cx="3124080" cy="2603520"/>
            <a:chOff x="4876920" y="2133720"/>
            <a:chExt cx="3124080" cy="2603520"/>
          </a:xfrm>
        </p:grpSpPr>
        <p:grpSp>
          <p:nvGrpSpPr>
            <p:cNvPr id="142" name=""/>
            <p:cNvGrpSpPr/>
            <p:nvPr/>
          </p:nvGrpSpPr>
          <p:grpSpPr>
            <a:xfrm>
              <a:off x="4876920" y="2133720"/>
              <a:ext cx="2590560" cy="2603520"/>
              <a:chOff x="4876920" y="2133720"/>
              <a:chExt cx="2590560" cy="2603520"/>
            </a:xfrm>
          </p:grpSpPr>
          <p:sp>
            <p:nvSpPr>
              <p:cNvPr id="143" name=""/>
              <p:cNvSpPr/>
              <p:nvPr/>
            </p:nvSpPr>
            <p:spPr>
              <a:xfrm>
                <a:off x="4876920" y="2362320"/>
                <a:ext cx="2577960" cy="2374920"/>
              </a:xfrm>
              <a:custGeom>
                <a:avLst/>
                <a:gdLst/>
                <a:ahLst/>
                <a:rect l="l" t="t" r="r" b="b"/>
                <a:pathLst>
                  <a:path w="1624" h="1496">
                    <a:moveTo>
                      <a:pt x="1336" y="0"/>
                    </a:moveTo>
                    <a:cubicBezTo>
                      <a:pt x="852" y="264"/>
                      <a:pt x="368" y="528"/>
                      <a:pt x="184" y="720"/>
                    </a:cubicBezTo>
                    <a:cubicBezTo>
                      <a:pt x="0" y="912"/>
                      <a:pt x="144" y="1024"/>
                      <a:pt x="232" y="1152"/>
                    </a:cubicBezTo>
                    <a:cubicBezTo>
                      <a:pt x="320" y="1280"/>
                      <a:pt x="512" y="1496"/>
                      <a:pt x="712" y="1488"/>
                    </a:cubicBezTo>
                    <a:cubicBezTo>
                      <a:pt x="912" y="1480"/>
                      <a:pt x="1280" y="1264"/>
                      <a:pt x="1432" y="1104"/>
                    </a:cubicBezTo>
                    <a:cubicBezTo>
                      <a:pt x="1584" y="944"/>
                      <a:pt x="1604" y="736"/>
                      <a:pt x="1624" y="528"/>
                    </a:cubicBezTo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89520" y="2133720"/>
                <a:ext cx="2577960" cy="2374920"/>
              </a:xfrm>
              <a:custGeom>
                <a:avLst/>
                <a:gdLst/>
                <a:ahLst/>
                <a:rect l="l" t="t" r="r" b="b"/>
                <a:pathLst>
                  <a:path w="1624" h="1496">
                    <a:moveTo>
                      <a:pt x="1336" y="0"/>
                    </a:moveTo>
                    <a:cubicBezTo>
                      <a:pt x="852" y="264"/>
                      <a:pt x="368" y="528"/>
                      <a:pt x="184" y="720"/>
                    </a:cubicBezTo>
                    <a:cubicBezTo>
                      <a:pt x="0" y="912"/>
                      <a:pt x="144" y="1024"/>
                      <a:pt x="232" y="1152"/>
                    </a:cubicBezTo>
                    <a:cubicBezTo>
                      <a:pt x="320" y="1280"/>
                      <a:pt x="512" y="1496"/>
                      <a:pt x="712" y="1488"/>
                    </a:cubicBezTo>
                    <a:cubicBezTo>
                      <a:pt x="912" y="1480"/>
                      <a:pt x="1280" y="1264"/>
                      <a:pt x="1432" y="1104"/>
                    </a:cubicBezTo>
                    <a:cubicBezTo>
                      <a:pt x="1584" y="944"/>
                      <a:pt x="1604" y="736"/>
                      <a:pt x="1624" y="528"/>
                    </a:cubicBezTo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48520" y="3429000"/>
              <a:ext cx="1752480" cy="533520"/>
            </a:xfrm>
            <a:prstGeom prst="wedgeRoundRectCallout">
              <a:avLst>
                <a:gd name="adj1" fmla="val -40217"/>
                <a:gd name="adj2" fmla="val -12708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5800" y="1828800"/>
            <a:ext cx="3365640" cy="2679840"/>
            <a:chOff x="685800" y="1828800"/>
            <a:chExt cx="3365640" cy="2679840"/>
          </a:xfrm>
        </p:grpSpPr>
        <p:grpSp>
          <p:nvGrpSpPr>
            <p:cNvPr id="147" name=""/>
            <p:cNvGrpSpPr/>
            <p:nvPr/>
          </p:nvGrpSpPr>
          <p:grpSpPr>
            <a:xfrm>
              <a:off x="1219320" y="1828800"/>
              <a:ext cx="2832120" cy="2679840"/>
              <a:chOff x="1219320" y="1828800"/>
              <a:chExt cx="2832120" cy="2679840"/>
            </a:xfrm>
          </p:grpSpPr>
          <p:sp>
            <p:nvSpPr>
              <p:cNvPr id="148" name=""/>
              <p:cNvSpPr/>
              <p:nvPr/>
            </p:nvSpPr>
            <p:spPr>
              <a:xfrm>
                <a:off x="1219320" y="2057400"/>
                <a:ext cx="2832120" cy="2451240"/>
              </a:xfrm>
              <a:custGeom>
                <a:avLst/>
                <a:gdLst/>
                <a:ahLst/>
                <a:rect l="l" t="t" r="r" b="b"/>
                <a:pathLst>
                  <a:path w="1784" h="1544">
                    <a:moveTo>
                      <a:pt x="624" y="0"/>
                    </a:moveTo>
                    <a:cubicBezTo>
                      <a:pt x="1000" y="208"/>
                      <a:pt x="1376" y="416"/>
                      <a:pt x="1536" y="576"/>
                    </a:cubicBezTo>
                    <a:cubicBezTo>
                      <a:pt x="1696" y="736"/>
                      <a:pt x="1784" y="800"/>
                      <a:pt x="1584" y="960"/>
                    </a:cubicBezTo>
                    <a:cubicBezTo>
                      <a:pt x="1384" y="1120"/>
                      <a:pt x="592" y="1528"/>
                      <a:pt x="336" y="1536"/>
                    </a:cubicBezTo>
                    <a:cubicBezTo>
                      <a:pt x="80" y="1544"/>
                      <a:pt x="96" y="1200"/>
                      <a:pt x="48" y="1008"/>
                    </a:cubicBezTo>
                    <a:cubicBezTo>
                      <a:pt x="0" y="816"/>
                      <a:pt x="48" y="488"/>
                      <a:pt x="48" y="384"/>
                    </a:cubicBezTo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9320" y="1828800"/>
                <a:ext cx="2832120" cy="2451240"/>
              </a:xfrm>
              <a:custGeom>
                <a:avLst/>
                <a:gdLst/>
                <a:ahLst/>
                <a:rect l="l" t="t" r="r" b="b"/>
                <a:pathLst>
                  <a:path w="1784" h="1544">
                    <a:moveTo>
                      <a:pt x="624" y="0"/>
                    </a:moveTo>
                    <a:cubicBezTo>
                      <a:pt x="1000" y="208"/>
                      <a:pt x="1376" y="416"/>
                      <a:pt x="1536" y="576"/>
                    </a:cubicBezTo>
                    <a:cubicBezTo>
                      <a:pt x="1696" y="736"/>
                      <a:pt x="1784" y="800"/>
                      <a:pt x="1584" y="960"/>
                    </a:cubicBezTo>
                    <a:cubicBezTo>
                      <a:pt x="1384" y="1120"/>
                      <a:pt x="592" y="1528"/>
                      <a:pt x="336" y="1536"/>
                    </a:cubicBezTo>
                    <a:cubicBezTo>
                      <a:pt x="80" y="1544"/>
                      <a:pt x="96" y="1200"/>
                      <a:pt x="48" y="1008"/>
                    </a:cubicBezTo>
                    <a:cubicBezTo>
                      <a:pt x="0" y="816"/>
                      <a:pt x="48" y="488"/>
                      <a:pt x="48" y="384"/>
                    </a:cubicBez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85800" y="3352680"/>
              <a:ext cx="1752480" cy="533520"/>
            </a:xfrm>
            <a:prstGeom prst="wedgeRoundRectCallout">
              <a:avLst>
                <a:gd name="adj1" fmla="val 34601"/>
                <a:gd name="adj2" fmla="val -16131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Části stroj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0" y="1066680"/>
            <a:ext cx="2540160" cy="1841760"/>
            <a:chOff x="2286000" y="1066680"/>
            <a:chExt cx="2540160" cy="1841760"/>
          </a:xfrm>
        </p:grpSpPr>
        <p:sp>
          <p:nvSpPr>
            <p:cNvPr id="152" name=""/>
            <p:cNvSpPr/>
            <p:nvPr/>
          </p:nvSpPr>
          <p:spPr>
            <a:xfrm>
              <a:off x="2286000" y="1447920"/>
              <a:ext cx="2540160" cy="1460520"/>
            </a:xfrm>
            <a:custGeom>
              <a:avLst/>
              <a:gdLst/>
              <a:ahLst/>
              <a:rect l="l" t="t" r="r" b="b"/>
              <a:pathLst>
                <a:path w="1552" h="824">
                  <a:moveTo>
                    <a:pt x="0" y="240"/>
                  </a:moveTo>
                  <a:cubicBezTo>
                    <a:pt x="44" y="296"/>
                    <a:pt x="88" y="352"/>
                    <a:pt x="192" y="432"/>
                  </a:cubicBezTo>
                  <a:cubicBezTo>
                    <a:pt x="296" y="512"/>
                    <a:pt x="480" y="656"/>
                    <a:pt x="624" y="720"/>
                  </a:cubicBezTo>
                  <a:cubicBezTo>
                    <a:pt x="768" y="784"/>
                    <a:pt x="912" y="824"/>
                    <a:pt x="1056" y="816"/>
                  </a:cubicBezTo>
                  <a:cubicBezTo>
                    <a:pt x="1200" y="808"/>
                    <a:pt x="1424" y="768"/>
                    <a:pt x="1488" y="672"/>
                  </a:cubicBezTo>
                  <a:cubicBezTo>
                    <a:pt x="1552" y="576"/>
                    <a:pt x="1472" y="352"/>
                    <a:pt x="1440" y="240"/>
                  </a:cubicBezTo>
                  <a:cubicBezTo>
                    <a:pt x="1408" y="128"/>
                    <a:pt x="1320" y="40"/>
                    <a:pt x="1296" y="0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1066680"/>
              <a:ext cx="1752480" cy="533520"/>
            </a:xfrm>
            <a:prstGeom prst="wedgeRoundRectCallout">
              <a:avLst>
                <a:gd name="adj1" fmla="val -7157"/>
                <a:gd name="adj2" fmla="val 12440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ribolog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406760" y="1371600"/>
            <a:ext cx="3746520" cy="1943280"/>
            <a:chOff x="4406760" y="1371600"/>
            <a:chExt cx="3746520" cy="1943280"/>
          </a:xfrm>
        </p:grpSpPr>
        <p:sp>
          <p:nvSpPr>
            <p:cNvPr id="155" name=""/>
            <p:cNvSpPr/>
            <p:nvPr/>
          </p:nvSpPr>
          <p:spPr>
            <a:xfrm>
              <a:off x="4406760" y="1371600"/>
              <a:ext cx="2603520" cy="1943280"/>
            </a:xfrm>
            <a:custGeom>
              <a:avLst/>
              <a:gdLst/>
              <a:ahLst/>
              <a:rect l="l" t="t" r="r" b="b"/>
              <a:pathLst>
                <a:path w="1640" h="1128">
                  <a:moveTo>
                    <a:pt x="56" y="0"/>
                  </a:moveTo>
                  <a:cubicBezTo>
                    <a:pt x="52" y="252"/>
                    <a:pt x="48" y="504"/>
                    <a:pt x="56" y="672"/>
                  </a:cubicBezTo>
                  <a:cubicBezTo>
                    <a:pt x="64" y="840"/>
                    <a:pt x="0" y="936"/>
                    <a:pt x="104" y="1008"/>
                  </a:cubicBezTo>
                  <a:cubicBezTo>
                    <a:pt x="208" y="1080"/>
                    <a:pt x="496" y="1128"/>
                    <a:pt x="680" y="1104"/>
                  </a:cubicBezTo>
                  <a:cubicBezTo>
                    <a:pt x="864" y="1080"/>
                    <a:pt x="1072" y="944"/>
                    <a:pt x="1208" y="864"/>
                  </a:cubicBezTo>
                  <a:cubicBezTo>
                    <a:pt x="1344" y="784"/>
                    <a:pt x="1424" y="704"/>
                    <a:pt x="1496" y="624"/>
                  </a:cubicBezTo>
                  <a:cubicBezTo>
                    <a:pt x="1568" y="544"/>
                    <a:pt x="1604" y="464"/>
                    <a:pt x="1640" y="384"/>
                  </a:cubicBezTo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1905120"/>
              <a:ext cx="2514600" cy="496440"/>
            </a:xfrm>
            <a:prstGeom prst="wedgeRoundRectCallout">
              <a:avLst>
                <a:gd name="adj1" fmla="val -69305"/>
                <a:gd name="adj2" fmla="val -4804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uka o materiá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133720"/>
            <a:ext cx="3504960" cy="2133360"/>
            <a:chOff x="2590920" y="2133720"/>
            <a:chExt cx="3504960" cy="2133360"/>
          </a:xfrm>
        </p:grpSpPr>
        <p:grpSp>
          <p:nvGrpSpPr>
            <p:cNvPr id="158" name=""/>
            <p:cNvGrpSpPr/>
            <p:nvPr/>
          </p:nvGrpSpPr>
          <p:grpSpPr>
            <a:xfrm>
              <a:off x="2590920" y="2133720"/>
              <a:ext cx="3504960" cy="2133360"/>
              <a:chOff x="2590920" y="2133720"/>
              <a:chExt cx="3504960" cy="213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2590920" y="2286000"/>
                <a:ext cx="3504960" cy="19810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90920" y="2133720"/>
                <a:ext cx="3504960" cy="19810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57600" y="26668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57200" y="990720"/>
            <a:ext cx="8686800" cy="4952880"/>
            <a:chOff x="457200" y="990720"/>
            <a:chExt cx="8686800" cy="4952880"/>
          </a:xfrm>
        </p:grpSpPr>
        <p:grpSp>
          <p:nvGrpSpPr>
            <p:cNvPr id="163" name=""/>
            <p:cNvGrpSpPr/>
            <p:nvPr/>
          </p:nvGrpSpPr>
          <p:grpSpPr>
            <a:xfrm>
              <a:off x="457200" y="1219320"/>
              <a:ext cx="6705720" cy="4724280"/>
              <a:chOff x="457200" y="1219320"/>
              <a:chExt cx="6705720" cy="472428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520" y="1447920"/>
                <a:ext cx="6629400" cy="4495680"/>
              </a:xfrm>
              <a:prstGeom prst="roundRect">
                <a:avLst>
                  <a:gd name="adj" fmla="val 16667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200" y="1219320"/>
                <a:ext cx="6629400" cy="4495680"/>
              </a:xfrm>
              <a:prstGeom prst="roundRect">
                <a:avLst>
                  <a:gd name="adj" fmla="val 16667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019920" y="990720"/>
              <a:ext cx="3124080" cy="761760"/>
            </a:xfrm>
            <a:prstGeom prst="wedgeRectCallout">
              <a:avLst>
                <a:gd name="adj1" fmla="val -75305"/>
                <a:gd name="adj2" fmla="val 541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stupně (palubní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066680" y="1943280"/>
            <a:ext cx="8077320" cy="3390840"/>
            <a:chOff x="1066680" y="1943280"/>
            <a:chExt cx="8077320" cy="3390840"/>
          </a:xfrm>
        </p:grpSpPr>
        <p:grpSp>
          <p:nvGrpSpPr>
            <p:cNvPr id="168" name=""/>
            <p:cNvGrpSpPr/>
            <p:nvPr/>
          </p:nvGrpSpPr>
          <p:grpSpPr>
            <a:xfrm>
              <a:off x="1066680" y="1981080"/>
              <a:ext cx="5791320" cy="3353040"/>
              <a:chOff x="1066680" y="1981080"/>
              <a:chExt cx="5791320" cy="3353040"/>
            </a:xfrm>
          </p:grpSpPr>
          <p:sp>
            <p:nvSpPr>
              <p:cNvPr id="169" name=""/>
              <p:cNvSpPr/>
              <p:nvPr/>
            </p:nvSpPr>
            <p:spPr>
              <a:xfrm>
                <a:off x="1143000" y="2209680"/>
                <a:ext cx="5715000" cy="312444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66680" y="1981080"/>
                <a:ext cx="5715000" cy="312444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019920" y="1943280"/>
              <a:ext cx="3124080" cy="761760"/>
            </a:xfrm>
            <a:prstGeom prst="wedgeRectCallout">
              <a:avLst>
                <a:gd name="adj1" fmla="val -75814"/>
                <a:gd name="adj2" fmla="val -37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tupně (externí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Koncepce vědecké práce a vý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5120" y="2590920"/>
            <a:ext cx="7238880" cy="2133360"/>
            <a:chOff x="1905120" y="2590920"/>
            <a:chExt cx="7238880" cy="2133360"/>
          </a:xfrm>
        </p:grpSpPr>
        <p:grpSp>
          <p:nvGrpSpPr>
            <p:cNvPr id="174" name=""/>
            <p:cNvGrpSpPr/>
            <p:nvPr/>
          </p:nvGrpSpPr>
          <p:grpSpPr>
            <a:xfrm>
              <a:off x="1905120" y="2590920"/>
              <a:ext cx="4572000" cy="2133360"/>
              <a:chOff x="1905120" y="2590920"/>
              <a:chExt cx="4572000" cy="2133360"/>
            </a:xfrm>
          </p:grpSpPr>
          <p:sp>
            <p:nvSpPr>
              <p:cNvPr id="175" name=""/>
              <p:cNvSpPr/>
              <p:nvPr/>
            </p:nvSpPr>
            <p:spPr>
              <a:xfrm>
                <a:off x="1981440" y="2819520"/>
                <a:ext cx="4495680" cy="190476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05120" y="2590920"/>
                <a:ext cx="4495680" cy="190476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019920" y="2895480"/>
              <a:ext cx="3124080" cy="762120"/>
            </a:xfrm>
            <a:prstGeom prst="wedgeRectCallout">
              <a:avLst>
                <a:gd name="adj1" fmla="val -73833"/>
                <a:gd name="adj2" fmla="val -37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tupn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Koncepce vědecké práce a vý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uka v magisterském stud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ináší nejnovější ověřené poznat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hodné formy výu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ednáš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ičení na reálných i virtuálních strojích a model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ostatná práce na případových studiích a projek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860640"/>
            <a:ext cx="914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uka v postgraduálním stud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ináší nejnovější ověřené poznatky, teorie, hypotézy a tre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hodné formy výu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ednášky a vědecké seminá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prava a vedení cvičení v magisterském stud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prava, realizace a vyhodnocování experiment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ka mobilních strojů směřuje k permanentní individuální kontrole analýzou provozních parametr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81952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 podporu tohoto trendu je třeb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jišťovat závislosti vhodných diagnostických signálů na technickém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řit a ověřovat metodiky pro snímání, zaznamenávání a analýzu těchto úda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ipravovat počítačové programy pro realizaci těchto meto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řit systémy optimální provozní péče pro konkrétní typy stro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7160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030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tika je nepostradatelnou součástí provozní péče o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924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030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voj směřuje k permanentní individuální kontrole analýzou chování strojů v provo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01336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030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ké metody diagnostiky jsou ideální pro systémy individuální provozní péče o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ěkuji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735360" y="0"/>
            <a:ext cx="1673280" cy="180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95680" y="4927680"/>
            <a:ext cx="1951200" cy="1928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862600" y="609480"/>
            <a:ext cx="1255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34120" y="457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1: Prostý diagnostický pos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1960" y="-6480"/>
          <a:ext cx="4611600" cy="687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-6480"/>
                    <a:ext cx="4611600" cy="687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685800" y="0"/>
          <a:ext cx="54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54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334120" y="457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2: Alternativní diagnostický pos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36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ká diagnostika jako o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gnostika v systému provozní pé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ncepce vědecké práce a výuky v obo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rnutí a závě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ká diagnostika jako o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lavní úkoly diagnostik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určení příčiny a místa poruchy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tekce postupně narůstajícího poškození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novení diagnó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rognózování vývoje technického st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zvoj výr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řeba technické diagnost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09680" y="1600200"/>
            <a:ext cx="3429000" cy="753480"/>
            <a:chOff x="2209680" y="1600200"/>
            <a:chExt cx="3429000" cy="753480"/>
          </a:xfrm>
        </p:grpSpPr>
        <p:sp>
          <p:nvSpPr>
            <p:cNvPr id="62" name=""/>
            <p:cNvSpPr/>
            <p:nvPr/>
          </p:nvSpPr>
          <p:spPr>
            <a:xfrm>
              <a:off x="2209680" y="1981080"/>
              <a:ext cx="6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86280" y="1600200"/>
              <a:ext cx="25524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ložitější funkce a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onstrukce stroj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715000" y="1782720"/>
            <a:ext cx="3409920" cy="387720"/>
            <a:chOff x="5715000" y="1782720"/>
            <a:chExt cx="3409920" cy="387720"/>
          </a:xfrm>
        </p:grpSpPr>
        <p:sp>
          <p:nvSpPr>
            <p:cNvPr id="65" name=""/>
            <p:cNvSpPr/>
            <p:nvPr/>
          </p:nvSpPr>
          <p:spPr>
            <a:xfrm>
              <a:off x="5715000" y="1981080"/>
              <a:ext cx="6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10320" y="1782720"/>
              <a:ext cx="25146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yšší ceny stroj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610320" y="2371680"/>
            <a:ext cx="2514600" cy="1642680"/>
            <a:chOff x="6610320" y="2371680"/>
            <a:chExt cx="2514600" cy="1642680"/>
          </a:xfrm>
        </p:grpSpPr>
        <p:sp>
          <p:nvSpPr>
            <p:cNvPr id="68" name=""/>
            <p:cNvSpPr/>
            <p:nvPr/>
          </p:nvSpPr>
          <p:spPr>
            <a:xfrm>
              <a:off x="6610320" y="3260880"/>
              <a:ext cx="25146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ětší ztráty v případě poru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67800" y="2371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591240" y="4216320"/>
            <a:ext cx="2552760" cy="1642680"/>
            <a:chOff x="6591240" y="4216320"/>
            <a:chExt cx="2552760" cy="1642680"/>
          </a:xfrm>
        </p:grpSpPr>
        <p:sp>
          <p:nvSpPr>
            <p:cNvPr id="71" name=""/>
            <p:cNvSpPr/>
            <p:nvPr/>
          </p:nvSpPr>
          <p:spPr>
            <a:xfrm>
              <a:off x="6591240" y="5105520"/>
              <a:ext cx="255276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ětší význam preventivní údrž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67800" y="421632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752480" y="2590920"/>
            <a:ext cx="4647960" cy="3340080"/>
            <a:chOff x="1752480" y="2590920"/>
            <a:chExt cx="4647960" cy="3340080"/>
          </a:xfrm>
        </p:grpSpPr>
        <p:sp>
          <p:nvSpPr>
            <p:cNvPr id="74" name=""/>
            <p:cNvSpPr/>
            <p:nvPr/>
          </p:nvSpPr>
          <p:spPr>
            <a:xfrm>
              <a:off x="1752480" y="5105520"/>
              <a:ext cx="3810240" cy="82548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třeba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chnické diagnostik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657600" y="2590920"/>
              <a:ext cx="2742840" cy="2890800"/>
              <a:chOff x="3657600" y="2590920"/>
              <a:chExt cx="2742840" cy="28908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5714640" y="548172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57600" y="2590920"/>
                <a:ext cx="0" cy="2361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cké met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znik a vývoj technické diagnosti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09680"/>
            <a:ext cx="883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ktivní, využívající lidské smysly, znalosti a zkuše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tivní, využívající měření vhodných veličin závislých na technickém stavu diagnostikovaného prv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cké postu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2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hodilé, podle zkušenost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2434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sté, přesně stanovené a předeps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151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ětvené, modifikované podle průběžných výsled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ké sign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096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dnodu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hr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305160"/>
            <a:ext cx="5715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39146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ěsnost spalovacího prostoru mo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586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kon mo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ěrná spotřeba pa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ké postu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76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hodilé, podle zkušenost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3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sté, přesně stanovené a předeps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19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ětvené, modifikované podle průběžných výsled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3809880"/>
            <a:ext cx="1295280" cy="1676520"/>
            <a:chOff x="533520" y="3809880"/>
            <a:chExt cx="1295280" cy="1676520"/>
          </a:xfrm>
        </p:grpSpPr>
        <p:sp>
          <p:nvSpPr>
            <p:cNvPr id="96" name=""/>
            <p:cNvSpPr/>
            <p:nvPr/>
          </p:nvSpPr>
          <p:spPr>
            <a:xfrm>
              <a:off x="533520" y="4191120"/>
              <a:ext cx="1295280" cy="12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38098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56280" y="3505320"/>
            <a:ext cx="1295280" cy="2286000"/>
            <a:chOff x="5156280" y="3505320"/>
            <a:chExt cx="1295280" cy="2286000"/>
          </a:xfrm>
        </p:grpSpPr>
        <p:sp>
          <p:nvSpPr>
            <p:cNvPr id="99" name=""/>
            <p:cNvSpPr/>
            <p:nvPr/>
          </p:nvSpPr>
          <p:spPr>
            <a:xfrm>
              <a:off x="5156280" y="4495680"/>
              <a:ext cx="1295280" cy="129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60840" y="350532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467480" y="2743200"/>
            <a:ext cx="1295640" cy="1676520"/>
            <a:chOff x="7467480" y="2743200"/>
            <a:chExt cx="1295640" cy="1676520"/>
          </a:xfrm>
        </p:grpSpPr>
        <p:sp>
          <p:nvSpPr>
            <p:cNvPr id="102" name=""/>
            <p:cNvSpPr/>
            <p:nvPr/>
          </p:nvSpPr>
          <p:spPr>
            <a:xfrm>
              <a:off x="7467480" y="3124080"/>
              <a:ext cx="1295640" cy="12956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2400" y="274320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543800" y="4876920"/>
            <a:ext cx="1295280" cy="1676160"/>
            <a:chOff x="7543800" y="4876920"/>
            <a:chExt cx="1295280" cy="1676160"/>
          </a:xfrm>
        </p:grpSpPr>
        <p:sp>
          <p:nvSpPr>
            <p:cNvPr id="105" name=""/>
            <p:cNvSpPr/>
            <p:nvPr/>
          </p:nvSpPr>
          <p:spPr>
            <a:xfrm>
              <a:off x="7543800" y="5257800"/>
              <a:ext cx="1295280" cy="12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4876920"/>
              <a:ext cx="685800" cy="457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771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42120" y="4495680"/>
            <a:ext cx="20880" cy="3049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44720" y="3809880"/>
            <a:ext cx="1295280" cy="1676520"/>
            <a:chOff x="2844720" y="3809880"/>
            <a:chExt cx="1295280" cy="1676520"/>
          </a:xfrm>
        </p:grpSpPr>
        <p:sp>
          <p:nvSpPr>
            <p:cNvPr id="111" name=""/>
            <p:cNvSpPr/>
            <p:nvPr/>
          </p:nvSpPr>
          <p:spPr>
            <a:xfrm>
              <a:off x="2844720" y="4191120"/>
              <a:ext cx="1295280" cy="12952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9280" y="3809880"/>
              <a:ext cx="685800" cy="457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ká měř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764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vazistat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sou definovány, kontrolovány a nastavovány vnější podmí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ěření probíhá v relativně ustálených režim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ou definovány, kontrolovány a nastavovány vnější podmí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ěření probíhá v ustálených režim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09960"/>
            <a:ext cx="91440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ká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nější podmínky nejsou nebo nemohou být ovlivňo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ěření probíhá během krátkých časových úseků nebo během uměle vyvolaných nebo přirozených přechodových dě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iagnostika v systému provozní pé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9396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cká údrž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ěžné, často se opakující úkony v pravidelných interval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znamnější úkony na základě diagnó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z diagnos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držba v pravidelných interval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09960"/>
            <a:ext cx="91440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ální údrž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znamnější úkony údržby i nezávislá diagnostika podle výzvy palubního diagnostického systé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ěžné úkony v pravidelných intervalech nebo kontinuál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12:36Z</dcterms:created>
  <dc:creator>Josef Pošta</dc:creator>
  <dc:description>Určeno k přednesení na VR TF dne 5.11.2003</dc:description>
  <dc:language>en-US</dc:language>
  <cp:lastModifiedBy>Josef Pošta</cp:lastModifiedBy>
  <dcterms:modified xsi:type="dcterms:W3CDTF">2003-11-05T08:40:41Z</dcterms:modified>
  <cp:revision>36</cp:revision>
  <dc:subject>Inaugurační přednáška</dc:subject>
  <dc:title>Diagnostika mobilních strojů v systému provozní péče</dc:title>
</cp:coreProperties>
</file>